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55D-2D41-4105-85E0-0AE5EA86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9A3-0914-4F39-8ED5-73F49F9D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42C-48AC-4810-955F-1355F3AC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B93-95B2-4B35-8B77-13AEE7D8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272-A865-4905-8C1B-3E45D2E6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1F8-241D-40F9-97F1-19F9548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AB6-9ED9-4F28-8104-75DDCD95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52C-939F-4BD9-A852-C42B8CE3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117-D2A0-4D60-B278-31C49C9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6F5-75B2-4E2B-B2CF-6AB2D40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AE3-29F0-4153-BF9B-C3D4B7B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87C-203A-4B2D-AB9A-175C5BD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99A8-6042-4A4B-8837-062C07980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6 Úsvit sa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aro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vit sa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zla sa k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niec bude tm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láve Ot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a sa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na zem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môže každ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poznať mnoh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znam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krátkom ča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y sa napl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vihnite hla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ám tak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tešuj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preň kto s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ynah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plní sa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47:57Z</dcterms:modified>
  <cp:revision>7</cp:revision>
  <dc:subject/>
  <dc:title>Bez nadpisu</dc:title>
</cp:coreProperties>
</file>